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7576-EA02-41EB-B7B5-F7A784EB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438-236C-49E8-A2DD-72BBC62C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86F-BDAE-411F-8354-1427CA96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C10-E16F-48FE-AF94-0B8FB45B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134F-DDE7-4464-9A26-DCF729EE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2ECF-2581-4F4A-81E0-D591C9E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7483-24E9-4E22-BDD2-83B377A6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1778-7CE6-4C08-8043-927BD90D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F035-2F0E-4F3B-B87A-7FD031CC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838B-6E0B-46F8-B9CE-A24A2CF1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6DB7-6C0F-4BF9-9699-E62624B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61A-E315-4C03-BC88-6124506E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AAC-2DE2-4AC6-9037-00FCD531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987-DAE2-4625-A7DD-0243DE5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2F84-B63A-40AD-BC14-02444311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4005-3D1E-4378-A52C-1DA9AD65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2AD-D497-4A7B-9102-99ACBBD2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DA-F1A7-49DE-9EBB-EFBB6863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FB0-16C7-479C-9FFD-2A775DCF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66C-CE8A-4019-9465-9D9BB606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6BB-70F0-42AC-9081-494CDA5D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5DE-A3D6-4ACE-98D2-1F64388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83F-A7FE-4572-BD93-5DEC1C28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D8C-04E8-4B76-8FF2-CAF59DDF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9191-41DA-4C32-A90E-8E123E8C1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2325-A3D5-4D53-8940-0CE8E0022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deo Tit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o Lu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our sports commer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mluna64@gmail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E5F3-5D1C-4A6A-A212-4EEF76E1F3C7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is to encourage the public to join (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) a parkour team/club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act I a student hasn’t practiced parkour and will be kicked of the team  i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doesn’t in the next 2-3 minu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act II the student practices around the scho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act III The student gets to his team with in the time limit and does not g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cked off the tea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make money if people give me money and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had something to do with the movie and YouTu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different because it will be a commercial for parko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0:02Z</dcterms:created>
  <dc:creator/>
  <dc:description/>
  <dc:language>en-US</dc:language>
  <cp:lastModifiedBy>City School</cp:lastModifiedBy>
  <dcterms:modified xsi:type="dcterms:W3CDTF">2013-02-19T21:30:10Z</dcterms:modified>
  <cp:revision>38</cp:revision>
  <dc:subject/>
  <dc:title>The Pitch-Then-Plan Business Planning Template</dc:title>
</cp:coreProperties>
</file>